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F9C-4071-4453-BF7B-C71B469F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A73-DE80-4947-806A-A9B2ECF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B23-08CE-428A-8853-F22A6C21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4DD-E11B-418C-8236-2AA0C36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FEB-6C52-44BF-B572-CF3C6496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EA3-74F4-4E4A-AC1C-405EE4CE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96D-25AB-4BBE-B6BA-518753A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130-9DEA-48C6-BEF4-710C581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571-4911-4B56-BF4E-67E1178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011-B81E-4A51-9517-50F8B61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878-BE15-49C5-8F9E-0DECD2F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387-2B12-4F9C-BFAD-9DFA94C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988-E9CE-4626-8260-0590F7F9BF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Zvučni valovi i zvu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Razine zvuka nekih izv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ina zvuka iskazuje se jedinicom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el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znak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, 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decibel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deset puta manja jedinica od b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 su zvukovi u rasponu od 0 dB (tišina) do 120 dB (zvuk motora mlažnjaka, top, vrlo glasan rock koncert,..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ulje izlaganje buci može trajno oštetiti sluh (oprezno sa slušalicama!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atni mehanizam u staklenoj ča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ujete li kucanje sata kada pločicu podigne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ujete li kucanje sata kada pločicu maknem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vučni se valovi kao i svi ostali valovi, poput bilijarske loptice, odbijaju od zapreka pod jednakim kutom pod kojim su na nju upali, 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β 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 α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glazbena viljuš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 kada batićem udarite po glazbenoj viljuš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nastaje zvu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zvuk prenosi do n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SnapShot(661).jpg"/>
          <p:cNvPicPr/>
          <p:nvPr/>
        </p:nvPicPr>
        <p:blipFill>
          <a:blip r:embed="rId5"/>
          <a:srcRect l="3346" t="2800" r="34252" b="3150"/>
          <a:stretch/>
        </p:blipFill>
        <p:spPr>
          <a:xfrm>
            <a:off x="4643280" y="2205000"/>
            <a:ext cx="3994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244.tif"/>
          <p:cNvPicPr/>
          <p:nvPr/>
        </p:nvPicPr>
        <p:blipFill>
          <a:blip r:embed="rId1"/>
          <a:stretch/>
        </p:blipFill>
        <p:spPr>
          <a:xfrm>
            <a:off x="1403280" y="1700280"/>
            <a:ext cx="637380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Čestice zraka titraju u smjeru širenja vala. Zbog takvoga gibanja čestice zraka izmjenično se zgušnjavaju i razrjeđuju i čine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longitudinalni val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, poput vala na opruzi koja se sabija i rastež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plamen svijeće i kuglica od staniola ispred izvora zv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što i plamen i kuglica zatitra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www.physics.purdue.edu/demos/images/4B-11_sized.jpg"/>
          <p:cNvPicPr/>
          <p:nvPr/>
        </p:nvPicPr>
        <p:blipFill>
          <a:blip r:embed="rId5"/>
          <a:stretch/>
        </p:blipFill>
        <p:spPr>
          <a:xfrm>
            <a:off x="5076720" y="1916280"/>
            <a:ext cx="33339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 li se zvuk širiti kroz zrakoprazan prostor (vakuum)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zina zvuk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isi o sredstvu kroz koje se on rasprostire. U zraku temperature 0 °C brzina zvuka iznosi ok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340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/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što je gotovo 1 200 km/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pravilno titranje proizvod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u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pravilno titranje da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on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Točnije, ton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vuk stalne frekvenc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sina tona ovisi o frekvenciji. Visoki tonovi nastaju kada izvor titra velikom frekvencijom, a duboke tonove proizvode titranja male frekvenc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Čovječje uho kao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zvuk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čuje zvučne valove frekvencija između 16 Hz i 20 000 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jeka, eka, eka, 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potrebno da čujemo jek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ka je zvuk koji nastaje odbijanjem zvuka ili gla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se prepreka nalazi na udaljenosi manjoj od 17 m, tada govorimo 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azvu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Ultrazvu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vučne valove frekvencij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ćih od 20 000 Hz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 čujemo i nazivamo ih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ltrazvuk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te li neka živa bića koja odašilju i mogu čuti ultrazvu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dje se sve koriste ultrazvučni uređa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250.tif"/>
          <p:cNvPicPr/>
          <p:nvPr/>
        </p:nvPicPr>
        <p:blipFill>
          <a:blip r:embed="rId6"/>
          <a:stretch/>
        </p:blipFill>
        <p:spPr>
          <a:xfrm>
            <a:off x="6084720" y="2349360"/>
            <a:ext cx="288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09:51:55Z</dcterms:created>
  <dc:creator>Zdenko</dc:creator>
  <dc:description/>
  <dc:language>en-US</dc:language>
  <cp:lastModifiedBy>Zdenko</cp:lastModifiedBy>
  <dcterms:modified xsi:type="dcterms:W3CDTF">2014-07-18T09:15:00Z</dcterms:modified>
  <cp:revision>7</cp:revision>
  <dc:subject/>
  <dc:title>Zvučni valovi i zvuk</dc:title>
</cp:coreProperties>
</file>